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C6E-903E-414A-B086-03496E1E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488-2038-43FB-B1C8-D061A822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682-E7A9-45D8-8D7E-26FA025F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1B7-02C2-44D0-BAA6-C1F46C21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81CF-9476-4048-88AE-BE11153D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AA9E-54A4-41EB-B3AA-CBDFDCD4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DA6-3B60-4F88-8DAD-29EF8EC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53F-5B36-445E-BFD5-6CFA952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C57-B268-4C57-8CFF-841C840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A09-98D8-4F7B-A570-B50BB57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5374-DA0B-423E-881B-5427E8C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63A-37BD-4481-A510-AFC04F0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2C42-B5B6-4FDE-9339-B223986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2E39-8C64-4468-B193-12B246C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90CB-5CA4-41AB-B2FD-0E627CAF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C140-5B61-4338-985C-35F9F9D2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F79-8F88-4545-810D-06048C7A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369-17D6-43D9-8B88-6DB6C13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1A7-0541-41E7-9A12-BBB8329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CB4-1227-45C8-8EE0-7DBAC2E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CBF-1AFF-4F1D-A447-5CA80C1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9DF-6FA5-42B2-B0C8-D48AF3E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24B-F379-42ED-A0CC-83D7F1EE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837-8F06-4D80-BCAF-3FF44344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C5BE-6AC1-40FE-8598-9733860DBF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C801-2279-49A6-81A1-A382E4F400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s.zum.de/rmg/index.php/Neue_Oberstufe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s.zum.de/rmg/index.php/W-Seminar_Englisch_2009_2011" TargetMode="External"/><Relationship Id="rId2" Type="http://schemas.openxmlformats.org/officeDocument/2006/relationships/hyperlink" Target="http://wikis.zum.de/rmg/index.php/W-Seminar_Englisch_2009_2011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- Seminar „Kanada“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chuljahr 2010/1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wertu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nararbeit 3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äsentation 1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i 0 Punkten in einem Teil =&gt; keine Zulassung zum Abit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steht für ZWEI Halbjahresleistu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x Seminararbeit+ 11/1+11/2+ P- Seminar (11/1+11/2) = 24 Punk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äsentatio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E Schüler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üss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wesend se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uer der Präsentation: ca. 15 Min. +         ca. 10 Min. Fra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 Tag der Präsentation darf der Referent keine Klausur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tei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trag auf ENGL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Point Prä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andteile der Prä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trag: frei sprechen, Engl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stellung der Themat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lder, Grafiken: Veranschaulich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aktion: Einbeziehung der Mitschü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wertet werde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rtr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ha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ra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k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chtige Informationen zur Seminararbei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</a:rPr>
              <a:t>Abgabe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: 09. November 2010 bis zur 2. Pause im Sekretari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ie Arbeit besteht a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ckblatt der Schule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=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ckblatt zum Thema der Arbei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Gliederung/ Inhaltsangabe „Table of Contents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Textteil (10-12 Seite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ibliographie „Bibliography“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nhang „Appendix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ersönliche Erklärung (Erscheint NICHT in Table of Contents, erhält aber eine separate Sei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önliche Erkläru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h erkläre hiermit, dass ich die Seminararbeit ohne fremde Hilfe angefertigt und nur die im Literaturverzeichnis angeführten Quellen und Hilfsmittel benutzt hab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......................................, den .......................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Datum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………………………………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                        Unterschrift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e Arbeit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rd farbig ausgedruckt (zumindest die Seiten mit farbigen Grafiken bzw. Bilder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sdruck auf hochwertigem Papier (mehr als 80m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 Arbeit ist gebunden (Spiralbindung ist möglic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 Arbeit hat einen festen Rückenband, an dem eine CD- ROM mit einer digitalen Kopie der Arbeit, Kopie der Websites befestigt 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infügen von Bilder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5256000" cy="3502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616572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3366"/>
                </a:solidFill>
                <a:uFillTx/>
                <a:latin typeface="Arial"/>
              </a:rPr>
              <a:t>Fig. 1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:   Parliament Building in Ottawa/ Ont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388360" y="1341000"/>
            <a:ext cx="144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89000"/>
            <a:ext cx="71294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Image Credits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[Teil der Bibliographie!!!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. 15  Fig. 1: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„Ottawa- Hauptstadt von Kanada.“ 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Kanada Reiseführer. Oct. 23, 2010. 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&lt;http://www.kanada-informationen.de/staedte-in-kanada/ottawa-hauptstadt-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kanada.html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14972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itie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apitel bezieht sich auf eine Quelle =&gt; Fußnote am Ende des Abschnitts (cp.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nnerhalb eines solchen indirekten Zitats müssen direkte Zitate aus derselben Quelle mit einer EIGENEN Fußnote versehen werd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m fortlaufenden Text soll auf Material im Anhang verwiesen werden =&gt; Fußnote (cp. Appendix p…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Überschrif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nnerhalb des fortlaufenden Textes MÜSSEN die im Table of Contents stehenden Überschriften nochmals erschein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ntsprechend der Ebene sollten Überschriften gleich dargestellt we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Terminplanung bis Februar 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0. November 2010: Workshop „Presentatio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7. November 2010: Buß- und Betta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24.11.2010- 19.01.2011 Präsentationen </a:t>
            </a:r>
            <a:r>
              <a:rPr b="0" lang="de-DE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iehe </a:t>
            </a:r>
            <a:r>
              <a:rPr b="0" lang="de-DE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RMGw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sweichtermin im Krankheitsfall: 26.01. oder 02.02.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ausgabe der Seminararbeit und Bekanntmachung der Noten (Seminararbeit und Präsentation) in der dritten Märzwoche beim Kurslei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ückgabe der Seminararbeiten durch die Schüler am 25.03.2011 im Sekretari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3:21:24Z</dcterms:created>
  <dc:creator>Sanne</dc:creator>
  <dc:description/>
  <dc:language>en-US</dc:language>
  <cp:lastModifiedBy>Sanne</cp:lastModifiedBy>
  <dcterms:modified xsi:type="dcterms:W3CDTF">2010-10-23T15:08:04Z</dcterms:modified>
  <cp:revision>17</cp:revision>
  <dc:subject/>
  <dc:title>W- Seminar „Kanada“</dc:title>
</cp:coreProperties>
</file>